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15F-9B56-4919-A2F4-65154DBE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89A-5519-4040-8B86-385A690D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570-9FE5-4F40-A788-D04A3492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901-50CA-4A94-A2AA-633D6CF5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D28E-4B44-4A4E-80FD-5CD0104F0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5C60-3313-4D50-95BF-50349740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29F3-458F-4444-BE9F-1392D449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CF52-A72B-4AEF-9B95-A982F699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EB9A-8593-4A0D-A7FF-55B8DB21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8B0E-E699-45F3-80AC-3154A58B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76F2-9627-493F-99EE-A66A363C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79D-0745-440C-867E-CA96F49D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2E35-F531-4B5F-AC41-25D359EC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1BC2-0F97-400F-835C-31D63FFA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5DAA-87C2-417F-A17A-E6B404BF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D689-60FA-41C8-BF6A-17A9F88A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420C-C8E2-4098-8DDD-D7A6E791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E06DB-6722-4913-8B6D-6BDB62B5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9AB53-C349-44A4-A594-7B7DAAE3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D94BE-701B-4C5D-93F3-3A1CCA10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3140A-B62B-4FB3-89B8-12DEEB34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A6030-0779-4AE4-B4CE-38648A03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BABF-F42C-4C08-985B-6DF06553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521B4-A94D-4AB2-94AF-F23BBDE6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E4E50-9A1A-4C9D-B2AF-DA42F9A3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C6F09-38D1-4492-BA95-34814269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F085F-DAA8-45E0-BD9D-74D0FC39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6471C-A7F1-4B07-B19E-22EEB74C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FED47-FE2F-41E7-AA47-26913F06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52424-C19A-44DE-AE1E-DF09B038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AE4-EBE6-46B9-84D4-92906B3B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D6B-90B3-4484-A4B8-23D6930C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3E2-FEB0-46B5-B2CA-A4F2DDAB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7F4-3C81-4AFC-AA8A-7CD338EE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1B8-7EA5-4C46-97E3-B560CD7A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B9D-EE4B-4191-AD3F-C6439B7C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2C38-8383-4C1B-A717-6DD2265684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E790-9D05-4374-A972-C1B5266BF0B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0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291C-961F-4E54-8034-B2DBC2E333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C:\Documents and Settings\User\Рабочий стол\6192.jpg"/>
          <p:cNvPicPr/>
          <p:nvPr/>
        </p:nvPicPr>
        <p:blipFill>
          <a:blip r:embed="rId1"/>
          <a:stretch/>
        </p:blipFill>
        <p:spPr>
          <a:xfrm>
            <a:off x="785880" y="55440"/>
            <a:ext cx="8001000" cy="6524640"/>
          </a:xfrm>
          <a:prstGeom prst="rect">
            <a:avLst/>
          </a:prstGeom>
          <a:ln w="0">
            <a:noFill/>
          </a:ln>
        </p:spPr>
      </p:pic>
      <p:pic>
        <p:nvPicPr>
          <p:cNvPr id="153" name="нам этот мир завещано беречь минус.mp3" descr=""/>
          <p:cNvPicPr/>
          <p:nvPr/>
        </p:nvPicPr>
        <p:blipFill>
          <a:blip r:embed="rId2"/>
          <a:stretch/>
        </p:blipFill>
        <p:spPr>
          <a:xfrm>
            <a:off x="142920" y="564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582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971640" y="836640"/>
            <a:ext cx="74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ликая Отечественная война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3000240" y="4149720"/>
            <a:ext cx="27147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941 - 1945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2678040" cy="30830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C:\Documents and Settings\User\Рабочий стол\1870739.jpg"/>
          <p:cNvPicPr/>
          <p:nvPr/>
        </p:nvPicPr>
        <p:blipFill>
          <a:blip r:embed="rId2"/>
          <a:stretch/>
        </p:blipFill>
        <p:spPr>
          <a:xfrm>
            <a:off x="5786280" y="2428920"/>
            <a:ext cx="3214800" cy="3214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3"/>
          <a:stretch/>
        </p:blipFill>
        <p:spPr>
          <a:xfrm>
            <a:off x="2928960" y="2500200"/>
            <a:ext cx="2857320" cy="628920"/>
          </a:xfrm>
          <a:prstGeom prst="rect">
            <a:avLst/>
          </a:prstGeom>
          <a:ln w="0">
            <a:noFill/>
          </a:ln>
        </p:spPr>
      </p:pic>
      <p:pic>
        <p:nvPicPr>
          <p:cNvPr id="160" name="голос Левитана.mp3" descr=""/>
          <p:cNvPicPr/>
          <p:nvPr/>
        </p:nvPicPr>
        <p:blipFill>
          <a:blip r:embed="rId4"/>
          <a:stretch/>
        </p:blipFill>
        <p:spPr>
          <a:xfrm>
            <a:off x="35712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462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C:\Documents and Settings\User\Рабочий стол\1434944998193398774.jpg"/>
          <p:cNvPicPr/>
          <p:nvPr/>
        </p:nvPicPr>
        <p:blipFill>
          <a:blip r:embed="rId1"/>
          <a:stretch/>
        </p:blipFill>
        <p:spPr>
          <a:xfrm>
            <a:off x="2214720" y="214200"/>
            <a:ext cx="5130720" cy="6510600"/>
          </a:xfrm>
          <a:prstGeom prst="rect">
            <a:avLst/>
          </a:prstGeom>
          <a:ln w="0">
            <a:noFill/>
          </a:ln>
        </p:spPr>
      </p:pic>
      <p:pic>
        <p:nvPicPr>
          <p:cNvPr id="162" name="Вставай страна огромная.mp3" descr=""/>
          <p:cNvPicPr/>
          <p:nvPr/>
        </p:nvPicPr>
        <p:blipFill>
          <a:blip r:embed="rId2"/>
          <a:stretch/>
        </p:blipFill>
        <p:spPr>
          <a:xfrm>
            <a:off x="285840" y="578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913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Times New Roman"/>
              </a:rPr>
              <a:t>ПИСЕМ БЕЛЫЕ СТАИ…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4" name="Picture 11" descr="1001"/>
          <p:cNvPicPr/>
          <p:nvPr/>
        </p:nvPicPr>
        <p:blipFill>
          <a:blip r:embed="rId1"/>
          <a:stretch/>
        </p:blipFill>
        <p:spPr>
          <a:xfrm rot="20344200">
            <a:off x="498240" y="1902960"/>
            <a:ext cx="4944960" cy="3708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dok 11"/>
          <p:cNvPicPr/>
          <p:nvPr/>
        </p:nvPicPr>
        <p:blipFill>
          <a:blip r:embed="rId2"/>
          <a:stretch/>
        </p:blipFill>
        <p:spPr>
          <a:xfrm rot="1469400">
            <a:off x="4026960" y="2442960"/>
            <a:ext cx="4606920" cy="3454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КАК ТРУДНО БЫЛО НАЙТИ СВОБОДНУЮ МИНУТКУ В ПЕРЕРЫВАХ МЕЖДУ БОЯМИ, ЧТОБЫ НАПИСАТЬ ПАРУ СТРОК РОДНЫМ И БЛИЗКИМ… 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7" name="Picture 8" descr="5"/>
          <p:cNvPicPr/>
          <p:nvPr/>
        </p:nvPicPr>
        <p:blipFill>
          <a:blip r:embed="rId1"/>
          <a:stretch/>
        </p:blipFill>
        <p:spPr>
          <a:xfrm>
            <a:off x="457200" y="1757520"/>
            <a:ext cx="4549680" cy="4743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image009"/>
          <p:cNvPicPr/>
          <p:nvPr/>
        </p:nvPicPr>
        <p:blipFill>
          <a:blip r:embed="rId2"/>
          <a:stretch/>
        </p:blipFill>
        <p:spPr>
          <a:xfrm>
            <a:off x="5929200" y="1071720"/>
            <a:ext cx="2256120" cy="299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image005"/>
          <p:cNvPicPr/>
          <p:nvPr/>
        </p:nvPicPr>
        <p:blipFill>
          <a:blip r:embed="rId3"/>
          <a:stretch/>
        </p:blipFill>
        <p:spPr>
          <a:xfrm>
            <a:off x="5929200" y="4143240"/>
            <a:ext cx="228600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"/>
          <p:cNvPicPr/>
          <p:nvPr/>
        </p:nvPicPr>
        <p:blipFill>
          <a:blip r:embed="rId1"/>
          <a:stretch/>
        </p:blipFill>
        <p:spPr>
          <a:xfrm>
            <a:off x="4714920" y="398520"/>
            <a:ext cx="4286160" cy="306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C:\Documents and Settings\User\Рабочий стол\3447154_large.jpg"/>
          <p:cNvPicPr/>
          <p:nvPr/>
        </p:nvPicPr>
        <p:blipFill>
          <a:blip r:embed="rId2"/>
          <a:stretch/>
        </p:blipFill>
        <p:spPr>
          <a:xfrm>
            <a:off x="142920" y="1071720"/>
            <a:ext cx="4500360" cy="3500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cuments and Settings\User\Рабочий стол\5.jpg"/>
          <p:cNvPicPr/>
          <p:nvPr/>
        </p:nvPicPr>
        <p:blipFill>
          <a:blip r:embed="rId3"/>
          <a:stretch/>
        </p:blipFill>
        <p:spPr>
          <a:xfrm>
            <a:off x="4738680" y="3714840"/>
            <a:ext cx="4214880" cy="2873160"/>
          </a:xfrm>
          <a:prstGeom prst="rect">
            <a:avLst/>
          </a:prstGeom>
          <a:ln w="0">
            <a:noFill/>
          </a:ln>
        </p:spPr>
      </p:pic>
      <p:pic>
        <p:nvPicPr>
          <p:cNvPr id="173" name="дети войны минус.mp3" descr=""/>
          <p:cNvPicPr/>
          <p:nvPr/>
        </p:nvPicPr>
        <p:blipFill>
          <a:blip r:embed="rId4"/>
          <a:stretch/>
        </p:blipFill>
        <p:spPr>
          <a:xfrm>
            <a:off x="35712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5496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7" descr="C:\Documents and Settings\User\Рабочий стол\13485839.gif"/>
          <p:cNvPicPr/>
          <p:nvPr/>
        </p:nvPicPr>
        <p:blipFill>
          <a:blip r:embed="rId1"/>
          <a:stretch/>
        </p:blipFill>
        <p:spPr>
          <a:xfrm>
            <a:off x="5214960" y="1500120"/>
            <a:ext cx="3143160" cy="3548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C:\Documents and Settings\User\Рабочий стол\1q4mx4xlm3gpd2y3ng73ubc6g-(page-picture-large) (1).jpg"/>
          <p:cNvPicPr/>
          <p:nvPr/>
        </p:nvPicPr>
        <p:blipFill>
          <a:blip r:embed="rId2"/>
          <a:stretch/>
        </p:blipFill>
        <p:spPr>
          <a:xfrm>
            <a:off x="428760" y="1500120"/>
            <a:ext cx="4667040" cy="3500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3285720" y="4785840"/>
            <a:ext cx="56437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т!” – заявляем мы войне, всем злым и чёрным силам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Должна трава зелёной быть, а небо синим-синим!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Ты слышишь, друг, звенят ручьи, поют на ветках пт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а замечательной земле нам довелось роди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Так пусть она цветёт всегда, пускай шумит са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Пусть люди смотрят на неё влюблёнными глазам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9"/>
          <p:cNvSpPr txBox="1"/>
          <p:nvPr/>
        </p:nvSpPr>
        <p:spPr>
          <a:xfrm>
            <a:off x="1116000" y="404640"/>
            <a:ext cx="727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Днём Победы!</a:t>
            </a:r>
            <a:endParaRPr b="1" i="1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8" name="кино идёт минус.mp3" descr=""/>
          <p:cNvPicPr/>
          <p:nvPr/>
        </p:nvPicPr>
        <p:blipFill>
          <a:blip r:embed="rId3"/>
          <a:stretch/>
        </p:blipFill>
        <p:spPr>
          <a:xfrm>
            <a:off x="35712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8243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7143840" y="106200"/>
            <a:ext cx="1428840" cy="1322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857160" y="1143000"/>
            <a:ext cx="3571920" cy="2571840"/>
          </a:xfrm>
          <a:prstGeom prst="rect">
            <a:avLst/>
          </a:prstGeom>
          <a:ln w="0">
            <a:noFill/>
          </a:ln>
        </p:spPr>
      </p:pic>
      <p:sp>
        <p:nvSpPr>
          <p:cNvPr id="181" name="WordArt 9"/>
          <p:cNvSpPr txBox="1"/>
          <p:nvPr/>
        </p:nvSpPr>
        <p:spPr>
          <a:xfrm>
            <a:off x="1692360" y="260280"/>
            <a:ext cx="496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мним!</a:t>
            </a:r>
            <a:endParaRPr b="1" i="1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Picture 8" descr="C:\Documents and Settings\User\Рабочий стол\wow70.jpg"/>
          <p:cNvPicPr/>
          <p:nvPr/>
        </p:nvPicPr>
        <p:blipFill>
          <a:blip r:embed="rId3"/>
          <a:stretch/>
        </p:blipFill>
        <p:spPr>
          <a:xfrm>
            <a:off x="4929120" y="1143000"/>
            <a:ext cx="3905280" cy="2571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C:\Documents and Settings\User\Рабочий стол\123456353_Velikaya_Otechestvennaya_Voyna__1941_1945_gg.jpg"/>
          <p:cNvPicPr/>
          <p:nvPr/>
        </p:nvPicPr>
        <p:blipFill>
          <a:blip r:embed="rId4"/>
          <a:stretch/>
        </p:blipFill>
        <p:spPr>
          <a:xfrm>
            <a:off x="2714760" y="3714840"/>
            <a:ext cx="3929040" cy="3012840"/>
          </a:xfrm>
          <a:prstGeom prst="rect">
            <a:avLst/>
          </a:prstGeom>
          <a:ln w="0">
            <a:noFill/>
          </a:ln>
        </p:spPr>
      </p:pic>
      <p:pic>
        <p:nvPicPr>
          <p:cNvPr id="184" name="Минута молчания.mp3" descr=""/>
          <p:cNvPicPr/>
          <p:nvPr/>
        </p:nvPicPr>
        <p:blipFill>
          <a:blip r:embed="rId5"/>
          <a:stretch/>
        </p:blipFill>
        <p:spPr>
          <a:xfrm>
            <a:off x="35712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0024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User\Рабочий стол\1367426351_1367426016_pust-vsegda-budet-solnce.jpg"/>
          <p:cNvPicPr/>
          <p:nvPr/>
        </p:nvPicPr>
        <p:blipFill>
          <a:blip r:embed="rId1"/>
          <a:stretch/>
        </p:blipFill>
        <p:spPr>
          <a:xfrm>
            <a:off x="928800" y="103320"/>
            <a:ext cx="7908840" cy="6325920"/>
          </a:xfrm>
          <a:prstGeom prst="rect">
            <a:avLst/>
          </a:prstGeom>
          <a:ln w="0">
            <a:noFill/>
          </a:ln>
        </p:spPr>
      </p:pic>
      <p:pic>
        <p:nvPicPr>
          <p:cNvPr id="186" name="Не отнимайте солнца у детей минус.mp3" descr=""/>
          <p:cNvPicPr/>
          <p:nvPr/>
        </p:nvPicPr>
        <p:blipFill>
          <a:blip r:embed="rId2"/>
          <a:stretch/>
        </p:blipFill>
        <p:spPr>
          <a:xfrm>
            <a:off x="214200" y="578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8300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3T20:04:45Z</dcterms:created>
  <dc:creator>Танюша</dc:creator>
  <dc:description/>
  <dc:language>en-US</dc:language>
  <cp:lastModifiedBy>User</cp:lastModifiedBy>
  <dcterms:modified xsi:type="dcterms:W3CDTF">2016-04-12T18:33:23Z</dcterms:modified>
  <cp:revision>44</cp:revision>
  <dc:subject/>
  <dc:title>Слайд 1</dc:title>
</cp:coreProperties>
</file>